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5FD5D-F5D7-421E-90E7-E0FDC5379C8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in  :20</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DBD4B-D1F3-4B9A-BEFE-9384B567F8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min small groups  :35</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066C-2C40-4BFA-8138-DC881F6CC5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4F4DE-FBE3-49AF-964E-DE4AE63DE5C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2 minutes  :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nalyze and contrast the languages: What are the patterns of grammar, and how does that grammar relate to usage (prag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a:t>
            </a: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71F20-A4A9-47D5-ABD3-F57D9BAA84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19958-DE9E-475B-8EE8-DC78E2EEA0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in</a:t>
            </a:r>
            <a:r>
              <a:rPr b="0" lang="en-US" sz="1200" spc="-1" strike="noStrike">
                <a:solidFill>
                  <a:srgbClr val="000000"/>
                </a:solidFill>
                <a:latin typeface="Calibri"/>
              </a:rPr>
              <a:t>	</a:t>
            </a:r>
            <a:r>
              <a:rPr b="0" lang="en-US" sz="1200" spc="-1" strike="noStrike">
                <a:solidFill>
                  <a:srgbClr val="000000"/>
                </a:solidFill>
                <a:latin typeface="Calibri"/>
              </a:rPr>
              <a:t>:4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sure to give examples of how students use the cueing systems in a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0 min [ 10:30am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43C49-34B2-4227-BAE3-274672951C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in.</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5180A-F6E3-4EEF-8C76-C90B59F618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in</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D0F3E-0DCB-4C93-8E27-B9B8F248D2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in.</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2ADA5-C1DA-4B2C-82EA-DD33B33E78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in.   10:49</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ibility of adding time to next week for inquiry groups, or adding a class on Friday since we lost time last week.  Maybe 30 min. so they have time to meet in their inquiry groups.  </a:t>
            </a: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5E00F-3366-4132-9EF6-246FF682DA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in.  8:02</a:t>
            </a: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A2423-4258-4323-90BD-FEF4781FF3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min./</a:t>
            </a:r>
            <a:r>
              <a:rPr b="1" lang="en-US" sz="1200" spc="-1" strike="noStrike">
                <a:solidFill>
                  <a:srgbClr val="000000"/>
                </a:solidFill>
                <a:latin typeface="Arial"/>
              </a:rPr>
              <a:t>10:50</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language resources, or cuing systems, are these 2nd grade readers utilizing? - 5-10 min. in groups</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over each.</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reader(s) would benefit from phonics instruction? OR remediation? What other information do you ne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reader 3 read it like that in his literature circle group?  What about in a guided reading group?  What about in a lesson that was explicitly focused on Standard English grammar? What does this say about who he is becom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To assess a student’s use of the pragmatic cuing system, we have to take into account the larger context of the activity, including it’s setting, purpose, and the other participan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CC0F6-EE94-4C24-A9BA-8997BCA12C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 min: jigsaw  10/1: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min: large group discussion  10/1:45</a:t>
            </a: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B8E99-151D-4EA2-8FCE-46A222F786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in/</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7A35F-E2DC-4F57-9C1F-3AE5D45248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this part by showing different aspects of the CAP test on overhead or by showing video</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min. (10 min. of video; 10 for discuss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qu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rror detection</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ing/nurturing a trusting relationship</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structu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1/2:07</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A90B-70B3-40AF-9559-A91A5D7A01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E6C47-3862-4D4C-8A7C-416FF5651A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nd review them and connect them to the idea of multimod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9BF65-5B14-42F3-8D6B-283C9ADF3D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a:t>
            </a:r>
            <a:r>
              <a:rPr b="0" lang="en-US" sz="1200" spc="-1" strike="noStrike">
                <a:solidFill>
                  <a:srgbClr val="000000"/>
                </a:solidFill>
                <a:latin typeface="Calibri"/>
              </a:rPr>
              <a:t>sibly add exampl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in</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2363F-A566-49AC-9FA1-BF2DC0B5AE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in   :15</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45395-19E0-4E4B-9ECF-F0232DFD34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1E574-AF38-4D60-AD8A-6AD5581C6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4D15C-5D75-45F8-A702-14C9A4775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B5690-B42A-4824-AD01-7C9E76692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241F3-1A08-4FF2-B3B1-81CF178B9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9DEF15-23C3-4828-A669-45CB5E60A9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CB04A-88BE-4E8A-B243-5C1EA5128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D019D-CA8F-440D-BB96-A126E6157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18DB4-B867-49FF-A275-F1C265FDB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84250-CA53-44FF-BFEA-70C18FF31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C49A7-20B2-4B9B-BEB8-DCD3FEF17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D9FBC-E643-4655-84AB-FDB0A7801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E92EB-D1C9-4DAE-8344-5CF9E54E8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CA7CE-A836-4429-BEAD-068831207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CB2D8-3CE7-4912-ADA3-D1F35CD8B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A5001-292C-457F-AFFA-75AC6E0E93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CF549C-FFC3-4341-9904-8D415D697C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B4EC29-5EA4-45F8-8221-6AD3D97D00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8AB5D0-A8F2-47E5-9A95-8986E2D56D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DF812D-CA8B-48B8-A3D9-1D7D606D19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BC7BB3-2756-4A70-A295-659F2A7EF6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9EE3DF-7F12-4FB1-A342-05341E8ED3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2BDB8C-C3C1-4956-8099-23170A753B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9E3C7-8F34-4CC5-9DF5-53971AC21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696818-5022-4FA9-BBAD-5D023305A9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785FB3-8F34-419A-B2E2-95FC6EDBDA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DDBA8D-E356-4071-87FE-4B5D2F6CB4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B8AAB4-36FE-48E0-8344-E2C56A03AF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B31326-E608-42A2-A559-5D886B0231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B40D8C-21D8-4256-BFAC-7CED55AB7F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BBA384-F27C-4198-BCF9-266BA52CE6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762E4E-B6D6-438F-88FF-1DBDB1132B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63C1A6-E5AE-4589-9CA6-84C94D29DE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8E1CE2-A262-44E7-A896-0454AD628F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C6847-1BF9-42E1-8195-C9464428A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BA33F2-D638-4F13-8EAB-F31A2F39E9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1C097E-5FF6-47C0-84F8-54BE131D86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1F4AB0-D630-433B-B53B-45839E5FB2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CE8DCA-928F-4F85-9FD8-D902643D3E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1A237C-65D8-47F4-9F91-8998D70BAC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2C00C7-5693-46E1-BF4C-665015250F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6BBF4D-6A46-4F67-95DC-C755A69E21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EAA627-B200-4384-AAD0-09F6AA7733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17C9DB-B4DE-40CF-A2FC-2624C7ECD8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8D7CF-933F-48A9-98A8-5EE8F689D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8C49E-54F8-4B8F-B370-F7D3F9645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33C1C-529F-47DA-A90B-EED7F9977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18BB3-0D9A-4C21-96AA-B7B3CA02E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DD332-DB54-4EB8-8EB1-C4AC79C48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44E5D-6855-40B0-9358-9EDB5CE0554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6E923-0104-413C-9EF8-B217F601C201}"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569A2-E46F-493C-82EB-A7CA785B7C81}"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CB8E2-7389-4AD5-809B-BE62DEF5411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365120"/>
            <a:ext cx="786456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spcBef>
                <a:spcPts val="10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Come in and be sure to sign in</a:t>
            </a:r>
            <a:endParaRPr b="0" lang="en-US" sz="4000" spc="-1" strike="noStrike">
              <a:solidFill>
                <a:srgbClr val="ffffff"/>
              </a:solidFill>
              <a:latin typeface="Constantia"/>
            </a:endParaRPr>
          </a:p>
          <a:p>
            <a:pPr algn="ctr">
              <a:spcBef>
                <a:spcPts val="10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1934640"/>
            <a:ext cx="8229600" cy="4389480"/>
          </a:xfrm>
          <a:prstGeom prst="rect">
            <a:avLst/>
          </a:prstGeom>
          <a:noFill/>
          <a:ln w="0">
            <a:noFill/>
          </a:ln>
        </p:spPr>
        <p:txBody>
          <a:bodyPr anchor="t">
            <a:normAutofit/>
          </a:bodyPr>
          <a:p>
            <a:pPr marL="95400" indent="7920">
              <a:lnSpc>
                <a:spcPct val="7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ho Defines the Standard</a:t>
            </a:r>
            <a:r>
              <a:rPr b="0" i="1" lang="en-US" sz="2800" spc="-1" strike="noStrike">
                <a:solidFill>
                  <a:srgbClr val="000000"/>
                </a:solidFill>
                <a:latin typeface="Constantia"/>
              </a:rPr>
              <a:t>“</a:t>
            </a:r>
            <a:endParaRPr b="0" lang="en-US" sz="2800" spc="-1" strike="noStrike">
              <a:solidFill>
                <a:srgbClr val="000000"/>
              </a:solidFill>
              <a:latin typeface="Constantia"/>
            </a:endParaRPr>
          </a:p>
          <a:p>
            <a:pPr lvl="1" marL="352440" indent="792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It is axiomatic that if Black people were in power in this country, Black English would be the prestige idiom.  This is a point which cannot be stressed too often, for frequently we find even Black students themselves with a negative image of they speech.  They too have been brainwashed about the ‘inherent and Absolute rightness’ of white, middle-class dialect”  (Smitherman, 2000, pp. 128-129).</a:t>
            </a:r>
            <a:endParaRPr b="0" lang="en-US" sz="2400" spc="-1" strike="noStrike">
              <a:solidFill>
                <a:srgbClr val="000000"/>
              </a:solidFill>
              <a:latin typeface="Constantia"/>
            </a:endParaRPr>
          </a:p>
          <a:p>
            <a:pPr marL="95400" indent="792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95400" indent="7920">
              <a:lnSpc>
                <a:spcPct val="7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ecause historically people with means (i.e. rich people,white people, and people from the north) have been in power, their ways of speaking have become the “standard” on which all other forms are judged.</a:t>
            </a:r>
            <a:endParaRPr b="0" lang="en-US" sz="2800" spc="-1" strike="noStrike">
              <a:solidFill>
                <a:srgbClr val="000000"/>
              </a:solidFill>
              <a:latin typeface="Constantia"/>
            </a:endParaRPr>
          </a:p>
          <a:p>
            <a:pPr marL="95400" indent="79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deswitching</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deswitching discussion</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ing the discussion organizer that you completed while reading, please discuss the reading in your small group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 sure to discuss the nine questions on your discussion notes form</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 will come back as a large group to touch on your small group discussio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Date Placeholder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ssessive Patterns</a:t>
            </a:r>
            <a:endParaRPr b="0" lang="en-US" sz="5000" spc="-1" strike="noStrike">
              <a:solidFill>
                <a:srgbClr val="04617b"/>
              </a:solidFill>
              <a:latin typeface="Calibri"/>
            </a:endParaRPr>
          </a:p>
        </p:txBody>
      </p:sp>
      <p:sp>
        <p:nvSpPr>
          <p:cNvPr id="227" name="PlaceHolder 2"/>
          <p:cNvSpPr>
            <a:spLocks noGrp="1"/>
          </p:cNvSpPr>
          <p:nvPr>
            <p:ph/>
          </p:nvPr>
        </p:nvSpPr>
        <p:spPr>
          <a:xfrm>
            <a:off x="457200" y="1481040"/>
            <a:ext cx="4038480" cy="4525920"/>
          </a:xfrm>
          <a:prstGeom prst="rect">
            <a:avLst/>
          </a:prstGeom>
          <a:noFill/>
          <a:ln w="0">
            <a:noFill/>
          </a:ln>
        </p:spPr>
        <p:txBody>
          <a:bodyPr anchor="t">
            <a:normAutofit/>
          </a:bodyPr>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nstantia"/>
              </a:rPr>
              <a:t>Informal English</a:t>
            </a: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aylor cat is black.</a:t>
            </a: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boy coat is torn.</a:t>
            </a: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giraffe neck is long.</a:t>
            </a: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d you see the teacher pen?</a:t>
            </a: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ttern: owner + owned</a:t>
            </a:r>
            <a:endParaRPr b="0" lang="en-US" sz="2600" spc="-1" strike="noStrike">
              <a:solidFill>
                <a:srgbClr val="000000"/>
              </a:solidFill>
              <a:latin typeface="Constantia"/>
            </a:endParaRPr>
          </a:p>
        </p:txBody>
      </p:sp>
      <p:sp>
        <p:nvSpPr>
          <p:cNvPr id="228" name="PlaceHolder 3"/>
          <p:cNvSpPr>
            <a:spLocks noGrp="1"/>
          </p:cNvSpPr>
          <p:nvPr>
            <p:ph/>
          </p:nvPr>
        </p:nvSpPr>
        <p:spPr>
          <a:xfrm>
            <a:off x="4648320" y="1828800"/>
            <a:ext cx="3962160" cy="4572000"/>
          </a:xfrm>
          <a:prstGeom prst="rect">
            <a:avLst/>
          </a:prstGeom>
          <a:noFill/>
          <a:ln w="0">
            <a:noFill/>
          </a:ln>
        </p:spPr>
        <p:txBody>
          <a:bodyPr anchor="t">
            <a:normAutofit/>
          </a:bodyPr>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nstantia"/>
              </a:rPr>
              <a:t>Formal English</a:t>
            </a: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aylor’s cat is black</a:t>
            </a: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boy’s coat is torn.</a:t>
            </a: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giraffe’s neck is long.</a:t>
            </a: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d you see the teacher’s pen?</a:t>
            </a: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ttern: owner (+apostrophe-s) +</a:t>
            </a:r>
            <a:endParaRPr b="0" lang="en-US" sz="2600" spc="-1" strike="noStrike">
              <a:solidFill>
                <a:srgbClr val="000000"/>
              </a:solidFill>
              <a:latin typeface="Constantia"/>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owne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ngage in role play to lower the affective filter</a:t>
            </a:r>
            <a:endParaRPr b="0" lang="en-US" sz="2800" spc="-1" strike="noStrike">
              <a:solidFill>
                <a:srgbClr val="000000"/>
              </a:solidFill>
              <a:latin typeface="Constantia"/>
            </a:endParaRPr>
          </a:p>
          <a:p>
            <a:pPr marL="272880" indent="-272880">
              <a:lnSpc>
                <a:spcPct val="7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osition, your students as linguists</a:t>
            </a:r>
            <a:endParaRPr b="0" lang="en-US" sz="2800" spc="-1" strike="noStrike">
              <a:solidFill>
                <a:srgbClr val="000000"/>
              </a:solidFill>
              <a:latin typeface="Constantia"/>
            </a:endParaRPr>
          </a:p>
          <a:p>
            <a:pPr marL="272880" indent="-272880">
              <a:lnSpc>
                <a:spcPct val="7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nless the focus of your lesson is on an aspect of Standard English grammar, do not comment on students’ language form.</a:t>
            </a:r>
            <a:endParaRPr b="0" lang="en-US" sz="2800" spc="-1" strike="noStrike">
              <a:solidFill>
                <a:srgbClr val="000000"/>
              </a:solidFill>
              <a:latin typeface="Constantia"/>
            </a:endParaRPr>
          </a:p>
          <a:p>
            <a:pPr marL="272880" indent="-272880">
              <a:lnSpc>
                <a:spcPct val="7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each grammatical differences </a:t>
            </a:r>
            <a:r>
              <a:rPr b="0" i="1" lang="en-US" sz="2800" spc="-1" strike="noStrike">
                <a:solidFill>
                  <a:srgbClr val="000000"/>
                </a:solidFill>
                <a:latin typeface="Constantia"/>
              </a:rPr>
              <a:t>in formal and informal mini-lessons</a:t>
            </a:r>
            <a:endParaRPr b="0" lang="en-US" sz="2800" spc="-1" strike="noStrike">
              <a:solidFill>
                <a:srgbClr val="000000"/>
              </a:solidFill>
              <a:latin typeface="Constantia"/>
            </a:endParaRPr>
          </a:p>
          <a:p>
            <a:pPr marL="272880" indent="-272880">
              <a:lnSpc>
                <a:spcPct val="7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se Contrastive Analysis</a:t>
            </a:r>
            <a:endParaRPr b="0" lang="en-US" sz="2800" spc="-1" strike="noStrike">
              <a:solidFill>
                <a:srgbClr val="000000"/>
              </a:solidFill>
              <a:latin typeface="Constantia"/>
            </a:endParaRPr>
          </a:p>
          <a:p>
            <a:pPr lvl="1" marL="639720" indent="-245880">
              <a:lnSpc>
                <a:spcPct val="7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alyze grammar for patterns</a:t>
            </a:r>
            <a:endParaRPr b="0" lang="en-US" sz="2400" spc="-1" strike="noStrike">
              <a:solidFill>
                <a:srgbClr val="000000"/>
              </a:solidFill>
              <a:latin typeface="Constantia"/>
            </a:endParaRPr>
          </a:p>
          <a:p>
            <a:pPr lvl="1" marL="639720" indent="-245880">
              <a:lnSpc>
                <a:spcPct val="7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trast; not correction</a:t>
            </a:r>
            <a:endParaRPr b="0" lang="en-US" sz="2400" spc="-1" strike="noStrike">
              <a:solidFill>
                <a:srgbClr val="000000"/>
              </a:solidFill>
              <a:latin typeface="Constantia"/>
            </a:endParaRPr>
          </a:p>
          <a:p>
            <a:pPr lvl="1" marL="639720" indent="-245880">
              <a:lnSpc>
                <a:spcPct val="7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ach children and signal to them when they need to “flip the switch,” or codeswitch</a:t>
            </a: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structional implications</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How do children use the </a:t>
            </a:r>
            <a:br>
              <a:rPr sz="4000"/>
            </a:br>
            <a:r>
              <a:rPr b="0" lang="en-US" sz="4000" spc="-1" strike="noStrike">
                <a:solidFill>
                  <a:srgbClr val="04617b"/>
                </a:solidFill>
                <a:latin typeface="Calibri"/>
              </a:rPr>
              <a:t>cueing systems?</a:t>
            </a:r>
            <a:endParaRPr b="0" lang="en-US" sz="4000" spc="-1" strike="noStrike">
              <a:solidFill>
                <a:srgbClr val="04617b"/>
              </a:solidFill>
              <a:latin typeface="Calibri"/>
            </a:endParaRPr>
          </a:p>
        </p:txBody>
      </p:sp>
      <p:sp>
        <p:nvSpPr>
          <p:cNvPr id="232" name="PlaceHolder 2"/>
          <p:cNvSpPr>
            <a:spLocks noGrp="1"/>
          </p:cNvSpPr>
          <p:nvPr>
            <p:ph/>
          </p:nvPr>
        </p:nvSpPr>
        <p:spPr>
          <a:xfrm>
            <a:off x="457200" y="1981080"/>
            <a:ext cx="8229600" cy="41911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ffective teachers know that children use all four cueing systems when engaged in literacy activities</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a:t>
            </a:r>
            <a:endParaRPr b="0" lang="en-US" sz="24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However, in any given circumstance, when trying to decipher a difficult text, one cueing system might be emphasized or relied upon more than the others.</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yntactic System</a:t>
            </a:r>
            <a:endParaRPr b="0" lang="en-US" sz="5000" spc="-1" strike="noStrike">
              <a:solidFill>
                <a:srgbClr val="04617b"/>
              </a:solidFill>
              <a:latin typeface="Calibri"/>
            </a:endParaRPr>
          </a:p>
        </p:txBody>
      </p:sp>
      <p:sp>
        <p:nvSpPr>
          <p:cNvPr id="234" name="PlaceHolder 2"/>
          <p:cNvSpPr>
            <a:spLocks noGrp="1"/>
          </p:cNvSpPr>
          <p:nvPr>
            <p:ph/>
          </p:nvPr>
        </p:nvSpPr>
        <p:spPr>
          <a:xfrm>
            <a:off x="456840" y="2133720"/>
            <a:ext cx="8534520" cy="441936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How words and parts of words are combined into sentences</a:t>
            </a:r>
            <a:endParaRPr b="0" lang="en-US" sz="2800" spc="-1" strike="noStrike">
              <a:solidFill>
                <a:srgbClr val="000000"/>
              </a:solidFill>
              <a:latin typeface="Constantia"/>
            </a:endParaRPr>
          </a:p>
          <a:p>
            <a:pPr lvl="2" marL="914400" indent="-246240">
              <a:lnSpc>
                <a:spcPct val="9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ord order</a:t>
            </a:r>
            <a:r>
              <a:rPr b="0" lang="en-US" sz="2000" spc="-1" strike="noStrike">
                <a:solidFill>
                  <a:srgbClr val="000000"/>
                </a:solidFill>
                <a:latin typeface="Constantia"/>
              </a:rPr>
              <a:t>	</a:t>
            </a:r>
            <a:r>
              <a:rPr b="0" lang="en-US" sz="2000" spc="-1" strike="noStrike">
                <a:solidFill>
                  <a:srgbClr val="000000"/>
                </a:solidFill>
                <a:latin typeface="Constantia"/>
              </a:rPr>
              <a:t>	</a:t>
            </a:r>
            <a:endParaRPr b="0" lang="en-US" sz="2000" spc="-1" strike="noStrike">
              <a:solidFill>
                <a:srgbClr val="000000"/>
              </a:solidFill>
              <a:latin typeface="Constantia"/>
            </a:endParaRPr>
          </a:p>
          <a:p>
            <a:pPr lvl="2" marL="914400" indent="-246240">
              <a:lnSpc>
                <a:spcPct val="9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ense</a:t>
            </a:r>
            <a:endParaRPr b="0" lang="en-US" sz="2000" spc="-1" strike="noStrike">
              <a:solidFill>
                <a:srgbClr val="000000"/>
              </a:solidFill>
              <a:latin typeface="Constantia"/>
            </a:endParaRPr>
          </a:p>
          <a:p>
            <a:pPr lvl="2" marL="914400" indent="-246240">
              <a:lnSpc>
                <a:spcPct val="9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umber</a:t>
            </a:r>
            <a:endParaRPr b="0" lang="en-US" sz="2000" spc="-1" strike="noStrike">
              <a:solidFill>
                <a:srgbClr val="000000"/>
              </a:solidFill>
              <a:latin typeface="Constantia"/>
            </a:endParaRPr>
          </a:p>
          <a:p>
            <a:pPr lvl="2" marL="914400" indent="-246240">
              <a:lnSpc>
                <a:spcPct val="9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ender</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How words and parts of speech go together to sound like meaningful language</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tructural rules of a language--grammar</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honological System</a:t>
            </a:r>
            <a:endParaRPr b="0" lang="en-US" sz="5000" spc="-1" strike="noStrike">
              <a:solidFill>
                <a:srgbClr val="04617b"/>
              </a:solidFill>
              <a:latin typeface="Calibri"/>
            </a:endParaRPr>
          </a:p>
        </p:txBody>
      </p:sp>
      <p:sp>
        <p:nvSpPr>
          <p:cNvPr id="236" name="PlaceHolder 2"/>
          <p:cNvSpPr>
            <a:spLocks noGrp="1"/>
          </p:cNvSpPr>
          <p:nvPr>
            <p:ph/>
          </p:nvPr>
        </p:nvSpPr>
        <p:spPr>
          <a:xfrm>
            <a:off x="380880" y="2057400"/>
            <a:ext cx="8763120" cy="4495680"/>
          </a:xfrm>
          <a:prstGeom prst="rect">
            <a:avLst/>
          </a:prstGeom>
          <a:noFill/>
          <a:ln w="0">
            <a:noFill/>
          </a:ln>
        </p:spPr>
        <p:txBody>
          <a:bodyPr anchor="t">
            <a:normAutofit fontScale="99000"/>
          </a:bodyPr>
          <a:p>
            <a:pPr marL="270000" indent="-2700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symbol systems of oral and written language and the relationship between them.  </a:t>
            </a:r>
            <a:endParaRPr b="0" lang="en-US" sz="2800" spc="-1" strike="noStrike">
              <a:solidFill>
                <a:srgbClr val="000000"/>
              </a:solidFill>
              <a:latin typeface="Constantia"/>
            </a:endParaRPr>
          </a:p>
          <a:p>
            <a:pPr marL="270000" indent="-2700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honics – Relationship between phonological and orthographic (spelling) systems (letter-sound correspondence)</a:t>
            </a:r>
            <a:endParaRPr b="0" lang="en-US" sz="2800" spc="-1" strike="noStrike">
              <a:solidFill>
                <a:srgbClr val="000000"/>
              </a:solidFill>
              <a:latin typeface="Constantia"/>
            </a:endParaRPr>
          </a:p>
          <a:p>
            <a:pPr marL="270000" indent="-2700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s cueing system deals with the smallest chunks of language:</a:t>
            </a:r>
            <a:endParaRPr b="0" lang="en-US" sz="28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honemes (units of sound)</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aphemes (units of written representation of phonem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mantic System</a:t>
            </a:r>
            <a:endParaRPr b="0" lang="en-US" sz="5000" spc="-1" strike="noStrike">
              <a:solidFill>
                <a:srgbClr val="04617b"/>
              </a:solidFill>
              <a:latin typeface="Calibri"/>
            </a:endParaRPr>
          </a:p>
        </p:txBody>
      </p:sp>
      <p:sp>
        <p:nvSpPr>
          <p:cNvPr id="23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lationships between language and meaning, the heart of language;</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cus is on vocabulary: What words and phrases mean</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ynonyms, antonyms, homonyms</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trongly related to social and cultural group</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da vs. pop</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lk shake vs. frapp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b vs. hoagie</a:t>
            </a:r>
            <a:endParaRPr b="0" lang="en-US" sz="2400" spc="-1" strike="noStrike">
              <a:solidFill>
                <a:srgbClr val="000000"/>
              </a:solidFill>
              <a:latin typeface="Constantia"/>
            </a:endParaRPr>
          </a:p>
          <a:p>
            <a:pPr marL="27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Pragmatic System</a:t>
            </a:r>
            <a:endParaRPr b="0" lang="en-US" sz="4000" spc="-1" strike="noStrike">
              <a:solidFill>
                <a:srgbClr val="04617b"/>
              </a:solidFill>
              <a:latin typeface="Calibri"/>
            </a:endParaRPr>
          </a:p>
        </p:txBody>
      </p:sp>
      <p:sp>
        <p:nvSpPr>
          <p:cNvPr id="240" name="PlaceHolder 2"/>
          <p:cNvSpPr>
            <a:spLocks noGrp="1"/>
          </p:cNvSpPr>
          <p:nvPr>
            <p:ph/>
          </p:nvPr>
        </p:nvSpPr>
        <p:spPr>
          <a:xfrm>
            <a:off x="685800" y="2133720"/>
            <a:ext cx="7772400" cy="3962160"/>
          </a:xfrm>
          <a:prstGeom prst="rect">
            <a:avLst/>
          </a:prstGeom>
          <a:noFill/>
          <a:ln w="0">
            <a:noFill/>
          </a:ln>
        </p:spPr>
        <p:txBody>
          <a:bodyPr anchor="t">
            <a:normAutofit fontScale="97000"/>
          </a:bodyPr>
          <a:p>
            <a:pPr marL="264600" indent="-2646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unction of language: Dependent on the social, cultural, and historical contexts of language use</a:t>
            </a:r>
            <a:endParaRPr b="0" lang="en-US" sz="2800" spc="-1" strike="noStrike">
              <a:solidFill>
                <a:srgbClr val="000000"/>
              </a:solidFill>
              <a:latin typeface="Constantia"/>
            </a:endParaRPr>
          </a:p>
          <a:p>
            <a:pPr marL="264600" indent="-2646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hat we know about how and when to change language to particular social settings</a:t>
            </a:r>
            <a:endParaRPr b="0" lang="en-US" sz="2800" spc="-1" strike="noStrike">
              <a:solidFill>
                <a:srgbClr val="000000"/>
              </a:solidFill>
              <a:latin typeface="Constantia"/>
            </a:endParaRPr>
          </a:p>
          <a:p>
            <a:pPr marL="264600" indent="-2646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t>
            </a:r>
            <a:r>
              <a:rPr b="0" lang="en-US" sz="2800" spc="-1" strike="noStrike">
                <a:solidFill>
                  <a:srgbClr val="000000"/>
                </a:solidFill>
                <a:latin typeface="Constantia"/>
              </a:rPr>
              <a:t>Is your mother there?” (in a phone conversation) – implies “I’d like to speak to your mother.”</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or next time</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L:  Ch 21-2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unning Records and Miscue Analysi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opics for today</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aningful and Constructive Litera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sessing Concepts about pr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deswitch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ching diverse learn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f6fc6"/>
                </a:solidFill>
                <a:uFillTx/>
                <a:latin typeface="Calibri"/>
              </a:rPr>
              <a:t>Text: Sarah’s brother, who was only twelve and didn’t yet know how to drive, crashed the car on the side of the street.</a:t>
            </a:r>
            <a:endParaRPr b="0" lang="en-US" sz="2800" spc="-1" strike="noStrike">
              <a:solidFill>
                <a:srgbClr val="04617b"/>
              </a:solidFill>
              <a:latin typeface="Calibri"/>
            </a:endParaRPr>
          </a:p>
        </p:txBody>
      </p:sp>
      <p:sp>
        <p:nvSpPr>
          <p:cNvPr id="244" name=""/>
          <p:cNvSpPr txBox="1"/>
          <p:nvPr/>
        </p:nvSpPr>
        <p:spPr>
          <a:xfrm>
            <a:off x="457200" y="1934640"/>
            <a:ext cx="8229600" cy="4389480"/>
          </a:xfrm>
          <a:prstGeom prst="rect">
            <a:avLst/>
          </a:prstGeom>
          <a:noFill/>
          <a:ln w="0">
            <a:noFill/>
          </a:ln>
        </p:spPr>
        <p:txBody>
          <a:bodyPr anchor="t">
            <a:normAutofit fontScale="90000"/>
          </a:bodyPr>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ader 1: Sarah’s brother, who was only twelve and didn’t yet know how to drive, crushed the car on the side of the street.</a:t>
            </a:r>
            <a:endParaRPr b="0" lang="en-US" sz="2200" spc="-1" strike="noStrike">
              <a:solidFill>
                <a:srgbClr val="000000"/>
              </a:solidFill>
              <a:latin typeface="Constantia"/>
            </a:endParaRPr>
          </a:p>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ader 2: Sarah’s br- broker, who was only twenty and didn’t know how to dr- drip, crasled the car on the side of the st- steps.</a:t>
            </a:r>
            <a:endParaRPr b="0" lang="en-US" sz="2200" spc="-1" strike="noStrike">
              <a:solidFill>
                <a:srgbClr val="000000"/>
              </a:solidFill>
              <a:latin typeface="Constantia"/>
            </a:endParaRPr>
          </a:p>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ader 3: Sarah bruvver, who was only twelve and didn’t yet know how to drive, crash the car on the side of the street.</a:t>
            </a:r>
            <a:endParaRPr b="0" lang="en-US" sz="2200" spc="-1" strike="noStrike">
              <a:solidFill>
                <a:srgbClr val="000000"/>
              </a:solidFill>
              <a:latin typeface="Constantia"/>
            </a:endParaRPr>
          </a:p>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ader 4: Sarah’s brother, who was only twelve and didn’t know how to drive a car, crashed the car on the side of the road.</a:t>
            </a:r>
            <a:endParaRPr b="0" lang="en-US" sz="2200" spc="-1" strike="noStrike">
              <a:solidFill>
                <a:srgbClr val="000000"/>
              </a:solidFill>
              <a:latin typeface="Constantia"/>
            </a:endParaRPr>
          </a:p>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ader 5: Sara’s brohther, who was only… twelve? and deedin’t yet k-now…know how to dreeveh…drive, crash the car on the side of the street.</a:t>
            </a:r>
            <a:endParaRPr b="0" lang="en-US" sz="2200" spc="-1" strike="noStrike">
              <a:solidFill>
                <a:srgbClr val="000000"/>
              </a:solidFill>
              <a:latin typeface="Constantia"/>
            </a:endParaRPr>
          </a:p>
          <a:p>
            <a:pPr marL="245520" indent="-24552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cueing systems are these readers using? Which reader(s) would you consider successful? Why? What other information could you use about these children?</a:t>
            </a:r>
            <a:endParaRPr b="0" lang="en-US" sz="2200" spc="-1" strike="noStrike">
              <a:solidFill>
                <a:srgbClr val="000000"/>
              </a:solidFill>
              <a:latin typeface="Constantia"/>
            </a:endParaRPr>
          </a:p>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Knowing Literacy- Jigsaw</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ing the Key Concepts Organizer that you filled out for your 3 chapters we will do the follow:</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et with the others who read the same chapter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iscuss the 5 key concepts that you each came up with </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t into groups of 4; one of each number in a group</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Jigsaw each of your sections so that each member of the group has an understanding of each sec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cepts About Print</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P refers to knowledge of the distinctive features of print text</a:t>
            </a: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ildren also develop concepts of other literate forms and how they work (hypertext, downloading, etc)</a:t>
            </a: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many ways, concepts about PRINT is outdated. We should be talking about concepts about literacy. </a:t>
            </a: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P will change depending on the writing system of the language</a:t>
            </a: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ildren are not born with an understanding of these concepts</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Procedures for CAP and </a:t>
            </a:r>
            <a:br>
              <a:rPr sz="4500"/>
            </a:br>
            <a:r>
              <a:rPr b="0" lang="en-US" sz="4500" spc="-1" strike="noStrike">
                <a:solidFill>
                  <a:srgbClr val="04617b"/>
                </a:solidFill>
                <a:latin typeface="Calibri"/>
              </a:rPr>
              <a:t>other alternatives</a:t>
            </a:r>
            <a:endParaRPr b="0" lang="en-US" sz="45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rowse Clay’s CAP, watch vide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itiques of the CAP assessment (see Johnston, ch. 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ternatives for assessing CAP</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int Awareness Checklist (Johnston, pp. 102-103)</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Johns &amp; Lenski, p. 87-88</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Six Language Arts</a:t>
            </a:r>
            <a:endParaRPr b="0" lang="en-US" sz="5000" spc="-1" strike="noStrike">
              <a:solidFill>
                <a:srgbClr val="04617b"/>
              </a:solidFill>
              <a:latin typeface="Calibri"/>
            </a:endParaRPr>
          </a:p>
        </p:txBody>
      </p:sp>
      <p:sp>
        <p:nvSpPr>
          <p:cNvPr id="21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peaking</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istening</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ading</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riting</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Viewing</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Visually Representing</a:t>
            </a:r>
            <a:endParaRPr b="0" lang="en-US" sz="2800" spc="-1" strike="noStrike">
              <a:solidFill>
                <a:srgbClr val="000000"/>
              </a:solidFill>
              <a:latin typeface="Constantia"/>
            </a:endParaRPr>
          </a:p>
          <a:p>
            <a:pPr marL="272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These rarely stand alone, particularly with the advent of new digital literaci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do humans learn language?</a:t>
            </a:r>
            <a:endParaRPr b="0" lang="en-US" sz="5000" spc="-1" strike="noStrike">
              <a:solidFill>
                <a:srgbClr val="04617b"/>
              </a:solidFill>
              <a:latin typeface="Calibri"/>
            </a:endParaRPr>
          </a:p>
        </p:txBody>
      </p:sp>
      <p:sp>
        <p:nvSpPr>
          <p:cNvPr id="21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anguage development begins in the womb</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ring mother’s voic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onations, the “sounds” of language</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petition of words and sound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essages are important; mistakes are not</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aning is the heart of languag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eates a risk-free environment for children to experiment with language</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anguage and identity are inseparabl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mily language and literacy practices vary greatly  and therefore each child’s literacy enculturation is uniqu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nguage is used for and within specific social practi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nowing that literacy acquisition is social, how do we engage students in meaningful, authentic activities and connect with families?</a:t>
            </a:r>
            <a:endParaRPr b="0" lang="en-US" sz="2600" spc="-1" strike="noStrike">
              <a:solidFill>
                <a:srgbClr val="000000"/>
              </a:solidFill>
              <a:latin typeface="Constantia"/>
            </a:endParaRPr>
          </a:p>
        </p:txBody>
      </p:sp>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nguage Acquisition as Social</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formation,  Strategies, tools and technologies used to accomplish daily lif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aracteristics of people in an activity; they become a part of a child’s histor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nowledge is obtained rather than </a:t>
            </a:r>
            <a:r>
              <a:rPr b="0" i="1" lang="en-US" sz="2600" spc="-1" strike="noStrike">
                <a:solidFill>
                  <a:srgbClr val="000000"/>
                </a:solidFill>
                <a:latin typeface="Constantia"/>
              </a:rPr>
              <a:t>imposed</a:t>
            </a:r>
            <a:r>
              <a:rPr b="0" lang="en-US" sz="2600" spc="-1" strike="noStrike">
                <a:solidFill>
                  <a:srgbClr val="000000"/>
                </a:solidFill>
                <a:latin typeface="Constantia"/>
              </a:rPr>
              <a:t> by adul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ing literacy based on political or institutional discourses limits access of learning to children</a:t>
            </a:r>
            <a:endParaRPr b="0" lang="en-US" sz="2600" spc="-1" strike="noStrike">
              <a:solidFill>
                <a:srgbClr val="000000"/>
              </a:solidFill>
              <a:latin typeface="Constantia"/>
            </a:endParaRPr>
          </a:p>
        </p:txBody>
      </p:sp>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unds of Knowledge</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15:29:49Z</dcterms:created>
  <dc:creator>College of Education</dc:creator>
  <dc:description/>
  <dc:language>en-US</dc:language>
  <cp:lastModifiedBy>Tami</cp:lastModifiedBy>
  <dcterms:modified xsi:type="dcterms:W3CDTF">2010-01-19T04:19:03Z</dcterms:modified>
  <cp:revision>28</cp:revision>
  <dc:subject/>
  <dc:title>Week 2, June 6th</dc:title>
</cp:coreProperties>
</file>